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70F2-C430-4C0D-85C7-2CDD62A6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C9E1-3F08-4032-B6A4-52013CF1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F17E-C26B-4C83-8F09-F651C88A4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C3B2-607C-4EE9-9EF4-9FA11B57E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6C35-BB98-432F-A65D-DB303C56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BBA7-A298-43A5-8094-8BD52093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4719-1FEA-443A-9BB8-77717FE2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4896-531C-47A8-97BD-B03B898F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EB76-D56D-4AF1-A483-F195D552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F22C-3171-45FB-872F-427CED4E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6C4A-73C4-4924-ABD1-FCCCB76C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3DEF-39FD-4E61-997B-CF3B412F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260B-33C2-470C-86A4-1FBD2C26AAB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39640" y="209520"/>
            <a:ext cx="813600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83534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يونس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سورة يونس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نبي الله يونس عليه السلام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يون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09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يون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الإسراء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3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ثبات النبوة والبع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>
            <a:off x="8820000" y="1662120"/>
            <a:ext cx="0" cy="214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ثبات التوحيد 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دعوة للإيمان بالرسالات السماو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ذكر قصة يونس عليه ال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نجاة قوم يونس لما آمنو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3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3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18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3T20:49:25Z</dcterms:modified>
  <cp:revision>1788</cp:revision>
  <dc:subject/>
  <dc:title>عرض تقديمي في PowerPoint</dc:title>
</cp:coreProperties>
</file>